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2769-4D14-4EF5-994D-DF0ED062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4E30-2F0F-465E-B4B3-26A7B355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F8C9-6E7C-47D0-AAD6-2C15376B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D81-E511-426F-A0D7-12856212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ADF1-C973-4507-996C-22D9B7AD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C742-D362-4A98-B5D3-C4BE275B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7D47-D4D7-4695-8433-C7877BAC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13D1-B45E-4BC2-AC97-AF3CAB8D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C2B6-FAA6-414B-88FD-6C61BF26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2899-ABA3-4058-8048-73FEF75E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50BB-D30B-4C9E-962E-88C94417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E61-A547-4653-A2FF-A1A793D1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A66D-93E2-475B-BA19-E9CE1FAD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337B-C848-4009-8D50-C02FEFF2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DBAC-8A1F-421D-8FAA-2D2B7FA5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7C82-644B-4FAA-9250-F73943AC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C05E-4FE1-45A7-A63C-766E2C86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FA9E-33A9-406D-A5A3-E647604D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7DE-2DC8-47EE-9E48-6BA22C5A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BCD0-AA1B-47B7-930E-580647E2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B644-7777-46BF-8D45-EBDB7FE6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5EBF-E462-4091-BE0E-41D38EA3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78E9-EE3D-4C10-92B9-A148D1C0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B73-950F-425F-A3C3-55E73137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8FAB-DE4F-4F69-9C22-2409FF4BD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D022-6CEC-4E00-AAF5-F9766482A7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Book of Psal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102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ewish Hymn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5, Lesson 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nited Kingdom, Par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58-17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duction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brews divided the Psalms into 5 groups or “books”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 1 – Psalms 1-4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 2 – Psalms 42-7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 3 – Psalms 73-8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 4 -  Psalms 90-10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 5 – Psalms 107-15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e law was contained in 5 books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duction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id that things in the psalms were written about hi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’ last words were quotations from Psalms 22:1 and 31:5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found in Matt. 27:46 and Luke 23:46, respectively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nd the disciples sang a psalm at the “last supper” (Matt. 26:30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duction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esting facts about the Psalm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alm 119 is the longest Psalm and the longest chapter in the B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alm 117 is the shortest Psalm, and the shortest and middle chapter in the B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alm 118:8 is the middle verse in the Bible –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better to trust in the Lord than to put confidence in man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duction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283 quotations from the OT, 116 are from the Psal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now study the leading ideas and thoughts found in the Psalms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eading Ideas, Subjects of Psal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ST – repeated over and ov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– David was always asking for something or thanking God for someth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JOICE – a favorite word of Davi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CY – occurs hundreds of tim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eading Ideas, Subjects of Psal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ianic prophecies (p. 171)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a thousand years before Chri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references to David, but they point forward to Christ since they are not applicable to any other person in his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 passages from Psalms are quoted in the NT, which are explicitly used to refer to Chri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 Psalms are clearly devoted to Christ as the Messia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eading Ideas, Subjects of Psal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es to God for help (p. 16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giving and praise for God’s deliverance (p. 163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God as the Creator and Sustainer (p. 164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for God’s mighty works (p. 165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God for who He is (p. 166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eading Ideas, Subjects of Psal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st between the righteous and the wicked (p. 167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ianic Psalms (discussed earlier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salms give us picture of our sins, our struggles, our sorrows, our joys, our sufferings, our aspirations, our failures, our victories, and ourselv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Wisdom Literature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b, Psalms, Proverbs, Ecclesiastes, and Song of Solomon often called – “poetry” but they are more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ntain “Wisdom Literature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eal with man’s approach to life on earth in all its asp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messages are found in groups of phrases and expres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urpose of the Writing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b 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men serve God?  Is it for gain, or is it because of devotion and commitmen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alms –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ewish hymnal – praises, prayers to express our sacred and holy though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urpose of the Writing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erbs 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llection of principles and axioms containing the distilled wisdom of all the ages – principles of living righ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clesiastes –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meaning of “life under the sun”?  What really matters in lif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urpose of the Writing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g of Solomon 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ve so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s with the feelings of affection, romance, and sexual attraction leading up to marri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ope of Our Study of Psalm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btain a general overview of the whole Bible as it pertains to God’s plan of redem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discuss an overview of Psalms  with some of it’s practical less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not study each Psalm individual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yourself a plan to study the Psalm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duction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alms written by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– 73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ns of Korah – 10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aph – 12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omon – 2 (72, 127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es – 1 (9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man – 1 (8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an – 1 (8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nymous – 50 (Many written by Davi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duction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aph, Heman and Ethan were Levite song leaders appointed by Davi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rah was Levi’s great grandson, his father was Izhar, his grandfather was Kohath.  Ten Psalms were written by his s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now David, Solomon and Moses very wel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duction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alms are songs and poems that –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his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ise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ess guil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 upon God for hel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 thanks to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 the Messia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12:16:26Z</dcterms:created>
  <dc:creator>Frank D Vines</dc:creator>
  <dc:description/>
  <dc:language>en-US</dc:language>
  <cp:lastModifiedBy>Frank D Vines</cp:lastModifiedBy>
  <dcterms:modified xsi:type="dcterms:W3CDTF">2005-06-01T05:06:17Z</dcterms:modified>
  <cp:revision>32</cp:revision>
  <dc:subject/>
  <dc:title>Job</dc:title>
</cp:coreProperties>
</file>